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E4D-BAAA-40BC-B28D-015B7D7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3A9-61AA-4637-A04C-E7399AA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F95-CD06-47BF-88BF-C4B1CEFD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270-465F-49F9-B9EE-FAF70F36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2F2-6D7F-45F4-832A-1E5FFDE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03E-C5F5-41C2-8501-BA8698F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B5B-C234-4F40-94FC-CE66A855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D42-E5CC-4A90-83C4-8F57859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ECC-B371-43C7-A16C-81270E04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38C-AB2A-473B-AF11-4336C29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336-118A-4008-A650-69761E1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E85-0D0D-4416-B1E5-BBAF989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EA8A-4F93-4643-A338-E2969628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iaoxue.com.cn/bbs/misc.php?action=viewratings&amp;tid=43888&amp;pid=112570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1"/>
          </p:cNvPr>
          <p:cNvSpPr/>
          <p:nvPr/>
        </p:nvSpPr>
        <p:spPr>
          <a:xfrm>
            <a:off x="990720" y="1914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2"/>
          <p:cNvSpPr/>
          <p:nvPr/>
        </p:nvSpPr>
        <p:spPr>
          <a:xfrm>
            <a:off x="1695960" y="1219320"/>
            <a:ext cx="576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 It' s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you do on Monda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play piano  on Monda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 It’s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you do on Wednes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play basketball on Wedn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4382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752480" y="2438280"/>
            <a:ext cx="5600880" cy="16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 for read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98360" y="1372680"/>
            <a:ext cx="62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aching aims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能学会本课的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nday, Monday, Tuesday, Wednes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rsday, Friday, Saturday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能在一定的情景中运用本课的新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icorn"/>
          <p:cNvPicPr/>
          <p:nvPr/>
        </p:nvPicPr>
        <p:blipFill>
          <a:blip r:embed="rId1"/>
          <a:stretch/>
        </p:blipFill>
        <p:spPr>
          <a:xfrm>
            <a:off x="2133720" y="990720"/>
            <a:ext cx="4248000" cy="3193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138760" y="457992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' s this ?      It' s an unicor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c"/>
          <p:cNvPicPr/>
          <p:nvPr/>
        </p:nvPicPr>
        <p:blipFill>
          <a:blip r:embed="rId1"/>
          <a:stretch/>
        </p:blipFill>
        <p:spPr>
          <a:xfrm>
            <a:off x="2819520" y="1295280"/>
            <a:ext cx="2876400" cy="2210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36640" y="4191120"/>
            <a:ext cx="59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re these ?    They' re cuc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alloons"/>
          <p:cNvPicPr/>
          <p:nvPr/>
        </p:nvPicPr>
        <p:blipFill>
          <a:blip r:embed="rId1"/>
          <a:stretch/>
        </p:blipFill>
        <p:spPr>
          <a:xfrm>
            <a:off x="2743200" y="12952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79520" y="419904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re these ?  They' re ball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31112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58360" y="2106720"/>
            <a:ext cx="607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re these ?They' re balloon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hat are these ?    They' re cuc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' s this ?      It' s an unico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' s this ? ice cu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9"/>
          <p:cNvSpPr/>
          <p:nvPr/>
        </p:nvSpPr>
        <p:spPr>
          <a:xfrm>
            <a:off x="1772280" y="1717200"/>
            <a:ext cx="57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 It' s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It' s Frid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 It' s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it today ? It’s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905120" y="2209680"/>
            <a:ext cx="609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nit today? It’s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nit today? It’s Satu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ay is nit today? It’s 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017440" y="1219320"/>
            <a:ext cx="50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you do on Frida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play soccer on Frida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you do on Monda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play piano  on Mond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you do on Wednes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play basketball on Wedn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10T02:15:1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1000000000001024120</vt:lpwstr>
  </property>
  <property fmtid="{D5CDD505-2E9C-101B-9397-08002B2CF9AE}" pid="3" name="Version">
    <vt:r8>1</vt:r8>
  </property>
</Properties>
</file>